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4A0-BF34-43B8-AB20-6D03087C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2FC-36D7-4C2F-88D3-E931C9D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0C3-03BA-4863-981B-1FE27151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318-E244-4CD7-A7E5-3B72BBAC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CFE-9392-4871-940F-FB2195C4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201-94A1-4A4C-B6D6-18BF75A2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261-DDE6-4D8A-A128-CC59C5B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A25-442E-46AC-9CE8-706ED2D3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4E6-3616-4745-8B2F-CE0F7EF7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9AD-12B6-4945-ADA8-D4F836E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CFB-D3EA-4463-80F8-20C55CB2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30B-B075-412F-BC41-00B2F6D2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D65-7903-485D-9946-23288EB27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au de bord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3124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ma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371600"/>
            <a:ext cx="4419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arge/a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371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é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828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1371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828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057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514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971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200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429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657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657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14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572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572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029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486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5486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5943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343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400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286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2743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3200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657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114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5029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6400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29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43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2743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200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429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3657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3886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4114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4343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4800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029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5257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5486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943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6172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6400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6629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22:35Z</dcterms:created>
  <dc:creator>MADERS</dc:creator>
  <dc:description/>
  <dc:language>en-US</dc:language>
  <cp:lastModifiedBy>MADERS</cp:lastModifiedBy>
  <dcterms:modified xsi:type="dcterms:W3CDTF">2002-03-09T10:25:50Z</dcterms:modified>
  <cp:revision>6</cp:revision>
  <dc:subject/>
  <dc:title>Présentation PowerPoint</dc:title>
</cp:coreProperties>
</file>